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30DB9-9E8F-4111-9B72-CBA6B23C8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4F526-A984-4829-9830-D5054A63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F2D1C-0743-4AE5-BF7C-D15ED9CDC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9C0F-1CFB-4119-837C-3E1C63B93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E7DF0-1D8E-468A-B94E-F24EC3536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CB6E0-7C44-4774-84EF-C1D9E057A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BFFAE-8FAC-4EA3-8045-F38EDEA85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64074-1B9D-45BD-B374-0BBF71548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09F5C-B650-47FC-9E84-50D37ECBD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741DF-A942-482D-8722-8ED045DB5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4865A-77ED-4606-96E8-771AFF056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525C7-1B05-470F-BDD6-02345CBA1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ED32B-B94E-4449-9D34-1766AF8A4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0A342-A4C7-4579-A634-655A73D27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C348A-DB39-4444-8C8F-95717FA69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5F9BF-7413-4D35-B9A5-E482313C9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C315B-9AC0-4A18-993D-BFA4EC262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204D4F-BE81-430F-BDFB-D05FAE9025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051C3-2E9D-4EA5-AB47-EA572C092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014DF-76D5-45A7-993A-C8074DB59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FBA0C-95DF-4755-8890-D9495DB4D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0B240-629D-42C6-9A36-5022BE091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58AB1-FA67-4E55-AA8A-6556890A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D1459-931E-43C7-8AEF-E6E464A1D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5C092-8950-4D21-BB80-7332F6919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8409C-94B9-427F-8E9A-4BCBD9007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907EF-08BB-40FD-BECF-72F78E819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990AE-3D69-409A-8ED6-7AA3D073B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CEF722-9D9C-42C6-846D-1B888BD63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87208F-594C-4796-B288-612F056E00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9F323-1963-44F1-B578-8F2758ABD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214C-5C55-4F85-B253-B138C6C1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D5EB-56C2-4448-8BF1-8FC98C9C1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EAE5-FC3E-4FA3-A108-D0D731DF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9A04-2498-455A-801B-07F5E966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F645-6193-4CA8-9E7B-238FF1C44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C477-6EB1-4D53-8FD3-31DAF35AE01C}" type="slidenum">
              <a:rPr b="0" lang="zh-CN" sz="1000" spc="-1" strike="noStrike">
                <a:solidFill>
                  <a:srgbClr val="00a6c8"/>
                </a:solidFill>
                <a:latin typeface="Verdana"/>
                <a:ea typeface="SimSun"/>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SimSu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2593-B79B-44D4-A654-EFBD9B9FFA80}" type="slidenum">
              <a:rPr b="0" lang="zh-CN" sz="1000" spc="-1" strike="noStrike">
                <a:solidFill>
                  <a:srgbClr val="103c72"/>
                </a:solidFill>
                <a:latin typeface="Verdana"/>
                <a:ea typeface="SimSu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1607-7751-4840-B344-1166BAC4A4AB}" type="slidenum">
              <a:rPr b="0" lang="zh-CN" sz="1000" spc="-1" strike="noStrike">
                <a:solidFill>
                  <a:srgbClr val="00a6c8"/>
                </a:solidFill>
                <a:latin typeface="Verdana"/>
                <a:ea typeface="SimSu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A98A-6ECE-4642-AF62-00AA8784DDDD}"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63" name="ZoneTexte 6"/>
          <p:cNvSpPr/>
          <p:nvPr/>
        </p:nvSpPr>
        <p:spPr>
          <a:xfrm>
            <a:off x="577800" y="2724120"/>
            <a:ext cx="469908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LRRD</a:t>
            </a:r>
            <a:r>
              <a:rPr b="0" lang="es-CL" sz="4400" spc="-1" strike="noStrike">
                <a:solidFill>
                  <a:srgbClr val="000000"/>
                </a:solidFill>
                <a:latin typeface="Arial"/>
              </a:rPr>
              <a:t>:</a:t>
            </a:r>
            <a:endParaRPr b="0" lang="en-US" sz="4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164" name="Picture 3" descr="14jaffna04.jpg"/>
          <p:cNvPicPr/>
          <p:nvPr/>
        </p:nvPicPr>
        <p:blipFill>
          <a:blip r:embed="rId1"/>
          <a:stretch/>
        </p:blipFill>
        <p:spPr>
          <a:xfrm>
            <a:off x="1324080" y="1647720"/>
            <a:ext cx="6191280" cy="4438800"/>
          </a:xfrm>
          <a:prstGeom prst="rect">
            <a:avLst/>
          </a:prstGeom>
          <a:ln w="0">
            <a:noFill/>
          </a:ln>
        </p:spPr>
      </p:pic>
      <p:sp>
        <p:nvSpPr>
          <p:cNvPr id="165" name="TextBox 5"/>
          <p:cNvSpPr/>
          <p:nvPr/>
        </p:nvSpPr>
        <p:spPr>
          <a:xfrm>
            <a:off x="1962000" y="3429000"/>
            <a:ext cx="44769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LRRD: </a:t>
            </a:r>
            <a:endParaRPr b="0" lang="en-US" sz="4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The case of </a:t>
            </a:r>
            <a:endParaRPr b="0" lang="en-US" sz="4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SRI LANKA</a:t>
            </a:r>
            <a:endParaRPr b="0" lang="en-US" sz="4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276800"/>
          </a:xfrm>
          <a:prstGeom prst="rect">
            <a:avLst/>
          </a:prstGeom>
          <a:noFill/>
          <a:ln w="0">
            <a:noFill/>
          </a:ln>
        </p:spPr>
        <p:txBody>
          <a:bodyPr anchor="t">
            <a:normAutofit fontScale="90000"/>
          </a:bodyPr>
          <a:p>
            <a:pPr marL="162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DIFFICULTIES</a:t>
            </a:r>
            <a:endParaRPr b="0" lang="en-US" sz="2100" spc="-1" strike="noStrike">
              <a:solidFill>
                <a:srgbClr val="103c72"/>
              </a:solidFill>
              <a:latin typeface="Verdana"/>
            </a:endParaRPr>
          </a:p>
          <a:p>
            <a:pPr marL="162720" indent="-1627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The main difficulty in dealing with protracted crises is the extended period of time necessary to </a:t>
            </a:r>
            <a:r>
              <a:rPr b="1" lang="en-GB" sz="2100" spc="-1" strike="noStrike" u="sng">
                <a:solidFill>
                  <a:srgbClr val="000000"/>
                </a:solidFill>
                <a:uFillTx/>
                <a:latin typeface="Arial"/>
                <a:ea typeface="Times New Roman"/>
              </a:rPr>
              <a:t>launching programs</a:t>
            </a:r>
            <a:r>
              <a:rPr b="1" lang="en-GB" sz="2100" spc="-1" strike="noStrike">
                <a:solidFill>
                  <a:srgbClr val="000000"/>
                </a:solidFill>
                <a:latin typeface="Arial"/>
                <a:ea typeface="Times New Roman"/>
              </a:rPr>
              <a:t>. Once programs are approved the situation of a country in transition is often very different from that when programs were designed. </a:t>
            </a:r>
            <a:endParaRPr b="0" lang="en-US" sz="2100" spc="-1" strike="noStrike">
              <a:solidFill>
                <a:srgbClr val="103c72"/>
              </a:solidFill>
              <a:latin typeface="Verdana"/>
            </a:endParaRPr>
          </a:p>
          <a:p>
            <a:pPr marL="162720" indent="-1627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Sri Lanka is a good example of how fast crises evolve. </a:t>
            </a:r>
            <a:endParaRPr b="0" lang="en-US" sz="2100" spc="-1" strike="noStrike">
              <a:solidFill>
                <a:srgbClr val="103c72"/>
              </a:solidFill>
              <a:latin typeface="Verdana"/>
            </a:endParaRPr>
          </a:p>
          <a:p>
            <a:pPr lvl="1" marL="668520" indent="-257040">
              <a:lnSpc>
                <a:spcPts val="2798"/>
              </a:lnSpc>
              <a:buClr>
                <a:srgbClr val="00000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One year ago, end of conflict: 300,000 IDPs in internment camps with no freedom of movement, humanitarian dilemma (need for assistance vs. principled approach), no access for agencies/donors. </a:t>
            </a:r>
            <a:endParaRPr b="0" lang="en-US" sz="2100" spc="-1" strike="noStrike">
              <a:solidFill>
                <a:srgbClr val="103c72"/>
              </a:solidFill>
              <a:latin typeface="Verdana"/>
            </a:endParaRPr>
          </a:p>
          <a:p>
            <a:pPr lvl="1" marL="668520" indent="-257040">
              <a:lnSpc>
                <a:spcPts val="2798"/>
              </a:lnSpc>
              <a:buClr>
                <a:srgbClr val="00000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Today: resettlement almost complete, enhanced freedom of movement and access, counterparts and rules in Government changed, priorities altered.</a:t>
            </a:r>
            <a:r>
              <a:rPr b="1" lang="en-GB" sz="2100" spc="-1" strike="noStrike">
                <a:solidFill>
                  <a:srgbClr val="000000"/>
                </a:solidFill>
                <a:latin typeface="Arial"/>
              </a:rPr>
              <a:t> </a:t>
            </a: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396800"/>
            <a:ext cx="8826480" cy="526716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SONS LEARNT</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700" spc="-1" strike="noStrike">
                <a:solidFill>
                  <a:srgbClr val="000000"/>
                </a:solidFill>
                <a:latin typeface="Arial"/>
                <a:ea typeface="Times New Roman"/>
              </a:rPr>
              <a:t>Need for systematic coordination ECHO/DEL, through for example: joint missions, sharing mission reports, constant exchange of information, mandatory consultations upon programming of any new funding intervention; joint meetings with common partners. </a:t>
            </a:r>
            <a:endParaRPr b="0" lang="en-US" sz="17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 Systematic coordination allows for enhanced flexibility and prompt adaptation of strategies. As an example, in 2009 it was established that ECHO was going to target "new caseload beneficiaries" (those 300,000 IDPs who fled the Vanni in 2009) and DEL the "old caseload". This proved unfeasible due to huge needs of new caseload and a new strategy had to be quickly elaborated.</a:t>
            </a:r>
            <a:endParaRPr b="0" lang="en-US" sz="17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 Importance of relying on independent assessments from reliable partners and of having the possibilities to check any inadequacy/overlapping in LRRD through continuous monitoring.  </a:t>
            </a:r>
            <a:endParaRPr b="0" lang="en-US" sz="17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 As explained above, DEL has become more attentive to the needs associated to a context of conflict, i.e. protection, disability, mitigation</a:t>
            </a:r>
            <a:r>
              <a:rPr b="1" lang="en-GB" sz="1800" spc="-1" strike="noStrike">
                <a:solidFill>
                  <a:srgbClr val="000000"/>
                </a:solidFill>
                <a:latin typeface="Arial"/>
              </a:rPr>
              <a:t>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0" y="1599840"/>
            <a:ext cx="8686800" cy="5257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OPOSITIONS TO HQ</a:t>
            </a:r>
            <a:endParaRPr b="0" lang="en-US" sz="21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ith general reference to LRRD:</a:t>
            </a:r>
            <a:endParaRPr b="0" lang="en-US" sz="21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81080" indent="-18108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Institutionalize LRRD: from a sort of good will practice to fully a fledged component of EU humanitarian and development cooperation policies</a:t>
            </a:r>
            <a:endParaRPr b="0" lang="en-US" sz="2100" spc="-1" strike="noStrike">
              <a:solidFill>
                <a:srgbClr val="103c72"/>
              </a:solidFill>
              <a:latin typeface="Verdana"/>
            </a:endParaRPr>
          </a:p>
          <a:p>
            <a:pPr marL="181080" indent="-18108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Need to update the document on LRRD, now outdated, through e.g. a thorough study comprising of field visits to all (or a meaningful selection of) countries in transition </a:t>
            </a:r>
            <a:endParaRPr b="0" lang="en-US" sz="2100" spc="-1" strike="noStrike">
              <a:solidFill>
                <a:srgbClr val="103c72"/>
              </a:solidFill>
              <a:latin typeface="Verdana"/>
            </a:endParaRPr>
          </a:p>
          <a:p>
            <a:pPr marL="181080" indent="-18108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Encouraging discussions and promoting strategies by organizing regular seminars/workshops at national/regional/HQ level </a:t>
            </a: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51920" y="1599840"/>
            <a:ext cx="8534520" cy="4809960"/>
          </a:xfrm>
          <a:prstGeom prst="rect">
            <a:avLst/>
          </a:prstGeom>
          <a:noFill/>
          <a:ln w="0">
            <a:noFill/>
          </a:ln>
        </p:spPr>
        <p:txBody>
          <a:bodyPr anchor="t">
            <a:normAutofit fontScale="94000"/>
          </a:bodyPr>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OPOSITIONS TO HQ </a:t>
            </a: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ith specific reference to Sri Lanka:</a:t>
            </a: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1699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RRD is progressing well and we have several examples of success stories in Shelters, Mine Action, Livelihood, Wash but</a:t>
            </a:r>
            <a:endParaRPr b="0" lang="en-US" sz="2000" spc="-1" strike="noStrike">
              <a:solidFill>
                <a:srgbClr val="103c72"/>
              </a:solidFill>
              <a:latin typeface="Verdana"/>
            </a:endParaRPr>
          </a:p>
          <a:p>
            <a:pPr marL="169920" indent="-1699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cond semester 2010 – first semester 2011: key period for LRRD as it coincides with what could be the last significant ECHO allocation before the start of phasing out</a:t>
            </a:r>
            <a:endParaRPr b="0" lang="en-US" sz="2000" spc="-1" strike="noStrike">
              <a:solidFill>
                <a:srgbClr val="103c72"/>
              </a:solidFill>
              <a:latin typeface="Verdana"/>
            </a:endParaRPr>
          </a:p>
          <a:p>
            <a:pPr marL="169920" indent="-1699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ed coordination is recommended along with the organization of two workshops: one internal (ECHO, DEL, respective partners) before allocating ECHO funding in Sept/Oct  2010. Another one upon end of ECHO activities in June 2011. This one should be open to other donors and stakeholders and take stock of what are the remaining needs/activities to take over.</a:t>
            </a:r>
            <a:r>
              <a:rPr b="1" lang="en-GB" sz="2100" spc="-1" strike="noStrike">
                <a:solidFill>
                  <a:srgbClr val="000000"/>
                </a:solidFill>
                <a:latin typeface="Arial"/>
              </a:rPr>
              <a:t> </a:t>
            </a: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32D5-06DD-455E-AC7B-EF20E5364044}"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pic>
        <p:nvPicPr>
          <p:cNvPr id="167" name="Picture 2" descr="satellite-image-of-sri-lanka reduced.jpg"/>
          <p:cNvPicPr/>
          <p:nvPr/>
        </p:nvPicPr>
        <p:blipFill>
          <a:blip r:embed="rId1"/>
          <a:srcRect l="35926" t="0" r="0" b="0"/>
          <a:stretch/>
        </p:blipFill>
        <p:spPr>
          <a:xfrm>
            <a:off x="6324480" y="2286000"/>
            <a:ext cx="2446560" cy="3975120"/>
          </a:xfrm>
          <a:prstGeom prst="rect">
            <a:avLst/>
          </a:prstGeom>
          <a:ln w="0">
            <a:noFill/>
          </a:ln>
        </p:spPr>
      </p:pic>
      <p:sp>
        <p:nvSpPr>
          <p:cNvPr id="168" name="Rectangle 4"/>
          <p:cNvSpPr/>
          <p:nvPr/>
        </p:nvSpPr>
        <p:spPr>
          <a:xfrm>
            <a:off x="704880" y="1562040"/>
            <a:ext cx="573408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Sri Lanka (22 Million inhabitants) is transiting between LDC and MDC</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fflicted by regional and ethnic divide between South-West (Sinhala) vs. North-East (Tamil)</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ivil war (1983 – 2009) between the Government of Sri Lanka and the Liberation Tigers of Tamil Eelam (LTTE), who fought for an independent state in the North East</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26 years of conflict had devastating impact on:</a:t>
            </a:r>
            <a:endParaRPr b="0" lang="en-US" sz="1800" spc="-1" strike="noStrike">
              <a:solidFill>
                <a:srgbClr val="80808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populations of N&amp;E: </a:t>
            </a:r>
            <a:endParaRPr b="0" lang="en-US" sz="1800" spc="-1" strike="noStrike">
              <a:solidFill>
                <a:srgbClr val="80808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high number of casualties,</a:t>
            </a:r>
            <a:endParaRPr b="0" lang="en-US" sz="1800" spc="-1" strike="noStrike">
              <a:solidFill>
                <a:srgbClr val="80808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ountless of wounded and disabled people.</a:t>
            </a:r>
            <a:endParaRPr b="0" lang="en-US" sz="1800" spc="-1" strike="noStrike">
              <a:solidFill>
                <a:srgbClr val="80808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Hundreds of thousands of displaced.</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Infrastructure, shelter and economic activities likewise shattered.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511C-9C69-41D8-BE3B-B74A4683280E}"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70" name="TextBox 2"/>
          <p:cNvSpPr/>
          <p:nvPr/>
        </p:nvSpPr>
        <p:spPr>
          <a:xfrm>
            <a:off x="838080" y="2019240"/>
            <a:ext cx="7334280" cy="3982320"/>
          </a:xfrm>
          <a:prstGeom prst="rect">
            <a:avLst/>
          </a:prstGeom>
          <a:noFill/>
          <a:ln w="0">
            <a:noFill/>
          </a:ln>
        </p:spPr>
        <p:style>
          <a:lnRef idx="0"/>
          <a:fillRef idx="0"/>
          <a:effectRef idx="0"/>
          <a:fontRef idx="minor"/>
        </p:style>
        <p:txBody>
          <a:bodyPr lIns="90000" rIns="90000" tIns="46800" bIns="46800" anchor="t">
            <a:spAutoFit/>
          </a:bodyPr>
          <a:p>
            <a:pPr lvl="1" marL="39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ome rough estimates:</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50,000 houses to be repaired/rebuilt;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up to 85% of the built infrastructures damaged;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functional health facilities are limited;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no (or very limited) service provision from Government;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only a fraction of the schools operating;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WASH infrastructures also disrupted.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n some areas, virtually all economic activity has come to a halt and no opportunity for livelihood is available.</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1"/>
          <p:cNvSpPr/>
          <p:nvPr/>
        </p:nvSpPr>
        <p:spPr>
          <a:xfrm>
            <a:off x="7962840" y="6245280"/>
            <a:ext cx="7239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6DD7-453D-4D16-96DB-E5174B806903}"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72" name="ZoneTexte 2"/>
          <p:cNvSpPr/>
          <p:nvPr/>
        </p:nvSpPr>
        <p:spPr>
          <a:xfrm>
            <a:off x="469800" y="2882880"/>
            <a:ext cx="778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Text Box 4"/>
          <p:cNvSpPr/>
          <p:nvPr/>
        </p:nvSpPr>
        <p:spPr>
          <a:xfrm>
            <a:off x="622440" y="1727280"/>
            <a:ext cx="76071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4" name="Text Box 5"/>
          <p:cNvSpPr/>
          <p:nvPr/>
        </p:nvSpPr>
        <p:spPr>
          <a:xfrm>
            <a:off x="495360" y="1511280"/>
            <a:ext cx="75945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overnment presented plan for return of IDPs and rehabilitation of affected areas with no collective/participatory consultation with donors</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ersistence of GoSL to engage with single agencies/donors bilaterally  </a:t>
            </a:r>
            <a:r>
              <a:rPr b="1" lang="en-GB" sz="1800" spc="-1" strike="noStrike">
                <a:solidFill>
                  <a:srgbClr val="000000"/>
                </a:solidFill>
                <a:latin typeface="Wingdings"/>
                <a:ea typeface="Wingdings"/>
              </a:rPr>
              <a:t></a:t>
            </a:r>
            <a:r>
              <a:rPr b="1" lang="en-GB" sz="1800" spc="-1" strike="noStrike">
                <a:solidFill>
                  <a:srgbClr val="000000"/>
                </a:solidFill>
                <a:latin typeface="Arial"/>
                <a:ea typeface="Times New Roman"/>
              </a:rPr>
              <a:t> "service provision" merging emergency and development activities  </a:t>
            </a:r>
            <a:r>
              <a:rPr b="1" lang="en-GB" sz="1800" spc="-1" strike="noStrike">
                <a:solidFill>
                  <a:srgbClr val="000000"/>
                </a:solidFill>
                <a:latin typeface="Wingdings"/>
                <a:ea typeface="Wingdings"/>
              </a:rPr>
              <a:t></a:t>
            </a:r>
            <a:r>
              <a:rPr b="1" lang="en-GB" sz="1800" spc="-1" strike="noStrike">
                <a:solidFill>
                  <a:srgbClr val="000000"/>
                </a:solidFill>
                <a:latin typeface="Arial"/>
                <a:ea typeface="Times New Roman"/>
              </a:rPr>
              <a:t> Lack of CHAP for 2010</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Limited coordination amongst agencies, several agencies presented their own Needs Assessment.  A few more reliable NA emerged amongst the others, WFP (food security) and UNOPS (overall vulnerability), OCHA (emergency needs)</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elegation followed flexible scenario-based approach of CSP which allowed sustained support to rehabilitation needs of conflict affected populations without following the normal cooperation pattern of close relationship with government</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Bulk of EU assistance channelled through international organisations – UN agencies, WB, ADB, National and Int. NGOs</a:t>
            </a:r>
            <a:r>
              <a:rPr b="1" lang="en-GB" sz="1800" spc="-1" strike="noStrike">
                <a:solidFill>
                  <a:srgbClr val="000000"/>
                </a:solidFill>
                <a:latin typeface="Arial"/>
              </a:rPr>
              <a:t> </a:t>
            </a:r>
            <a:endParaRPr b="0" lang="en-US" sz="1800" spc="-1" strike="noStrike">
              <a:solidFill>
                <a:srgbClr val="808080"/>
              </a:solidFill>
              <a:latin typeface="Arial"/>
            </a:endParaRPr>
          </a:p>
        </p:txBody>
      </p:sp>
      <p:sp>
        <p:nvSpPr>
          <p:cNvPr id="175" name="Espace réservé du numéro de diapositive 1"/>
          <p:cNvSpPr/>
          <p:nvPr/>
        </p:nvSpPr>
        <p:spPr>
          <a:xfrm>
            <a:off x="0" y="0"/>
            <a:ext cx="4190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6" name="Espace réservé du numéro de diapositive 1"/>
          <p:cNvSpPr/>
          <p:nvPr/>
        </p:nvSpPr>
        <p:spPr>
          <a:xfrm>
            <a:off x="8217000" y="403200"/>
            <a:ext cx="6728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6c8"/>
                </a:solidFill>
                <a:latin typeface="Verdana"/>
                <a:ea typeface="SimSun"/>
              </a:rPr>
              <a:t>1</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LRRD"/>
          <p:cNvPicPr/>
          <p:nvPr/>
        </p:nvPicPr>
        <p:blipFill>
          <a:blip r:embed="rId1"/>
          <a:stretch/>
        </p:blipFill>
        <p:spPr>
          <a:xfrm>
            <a:off x="264960" y="1636560"/>
            <a:ext cx="3086280" cy="4896000"/>
          </a:xfrm>
          <a:prstGeom prst="rect">
            <a:avLst/>
          </a:prstGeom>
          <a:ln w="0">
            <a:noFill/>
          </a:ln>
        </p:spPr>
      </p:pic>
      <p:pic>
        <p:nvPicPr>
          <p:cNvPr id="178" name="Picture 5" descr=""/>
          <p:cNvPicPr/>
          <p:nvPr/>
        </p:nvPicPr>
        <p:blipFill>
          <a:blip r:embed="rId2"/>
          <a:srcRect l="12951" t="18660" r="16079" b="15572"/>
          <a:stretch/>
        </p:blipFill>
        <p:spPr>
          <a:xfrm>
            <a:off x="3576600" y="2789280"/>
            <a:ext cx="4535640" cy="3808440"/>
          </a:xfrm>
          <a:prstGeom prst="rect">
            <a:avLst/>
          </a:prstGeom>
          <a:ln w="0">
            <a:noFill/>
          </a:ln>
        </p:spPr>
      </p:pic>
      <p:sp>
        <p:nvSpPr>
          <p:cNvPr id="179" name="Rectangle 6"/>
          <p:cNvSpPr/>
          <p:nvPr/>
        </p:nvSpPr>
        <p:spPr>
          <a:xfrm>
            <a:off x="2239920" y="1582560"/>
            <a:ext cx="5908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EU-Assistance to Conflict Affected People  Sri Lanka</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reas of intervention/</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ypes of intervention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1E9D-474F-45A2-BDF8-F6A0A4CE0F7D}"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81" name="ZoneTexte 2"/>
          <p:cNvSpPr/>
          <p:nvPr/>
        </p:nvSpPr>
        <p:spPr>
          <a:xfrm>
            <a:off x="0" y="1486080"/>
            <a:ext cx="871236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RATEGIES AND PRIORITIES</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legation and ECHO elaborated </a:t>
            </a:r>
            <a:r>
              <a:rPr b="1" lang="en-GB" sz="2000" spc="-1" strike="noStrike" u="sng">
                <a:solidFill>
                  <a:srgbClr val="000000"/>
                </a:solidFill>
                <a:uFillTx/>
                <a:latin typeface="Arial"/>
                <a:ea typeface="Times New Roman"/>
              </a:rPr>
              <a:t>complementary strategies</a:t>
            </a:r>
            <a:r>
              <a:rPr b="1" lang="en-GB" sz="2000" spc="-1" strike="noStrike">
                <a:solidFill>
                  <a:srgbClr val="000000"/>
                </a:solidFill>
                <a:latin typeface="Arial"/>
                <a:ea typeface="Times New Roman"/>
              </a:rPr>
              <a:t> which allowed working through parallel interventions on the basis of:</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gree of intensity of conflict / Time lapse from end of conflict </a:t>
            </a:r>
            <a:r>
              <a:rPr b="1" lang="en-GB" sz="2000" spc="-1" strike="noStrike">
                <a:solidFill>
                  <a:srgbClr val="000000"/>
                </a:solidFill>
                <a:latin typeface="Wingdings"/>
                <a:ea typeface="Wingdings"/>
              </a:rPr>
              <a:t></a:t>
            </a:r>
            <a:r>
              <a:rPr b="1" lang="en-GB" sz="2000" spc="-1" strike="noStrike">
                <a:solidFill>
                  <a:srgbClr val="000000"/>
                </a:solidFill>
                <a:latin typeface="Arial"/>
                <a:ea typeface="Times New Roman"/>
              </a:rPr>
              <a:t> Geographic partition</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ECHO targets fragile areas that experienced intense and prolonged conflict (the Vanni, i.e. the territory under direct LTTE control until May 2009). </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rough EU ACAP programme, DEL currently targets areas where conflict ended at earlier stages in East and Vanni-bordering areas of return. In future, plans to move in Vanni and when situation stabilizes, possibly Jaffna if ECHO phases out.</a:t>
            </a:r>
            <a:endParaRPr b="0" lang="en-US" sz="2000" spc="-1" strike="noStrike">
              <a:solidFill>
                <a:srgbClr val="808080"/>
              </a:solidFill>
              <a:latin typeface="Arial"/>
            </a:endParaRPr>
          </a:p>
        </p:txBody>
      </p:sp>
      <p:sp>
        <p:nvSpPr>
          <p:cNvPr id="182" name="Espace réservé du numéro de diapositive 1"/>
          <p:cNvSpPr/>
          <p:nvPr/>
        </p:nvSpPr>
        <p:spPr>
          <a:xfrm flipH="1" flipV="1">
            <a:off x="8127360" y="4448160"/>
            <a:ext cx="42840" cy="44640"/>
          </a:xfrm>
          <a:prstGeom prst="rect">
            <a:avLst/>
          </a:prstGeom>
          <a:noFill/>
          <a:ln w="0">
            <a:noFill/>
          </a:ln>
        </p:spPr>
        <p:style>
          <a:lnRef idx="0"/>
          <a:fillRef idx="0"/>
          <a:effectRef idx="0"/>
          <a:fontRef idx="minor"/>
        </p:style>
        <p:txBody>
          <a:bodyPr lIns="90000" rIns="90000" tIns="-2160" bIns="-2160" anchor="t"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CAEA-80C8-4B41-92B9-3F54103C8669}"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84" name="ZoneTexte 2"/>
          <p:cNvSpPr/>
          <p:nvPr/>
        </p:nvSpPr>
        <p:spPr>
          <a:xfrm>
            <a:off x="0" y="1270080"/>
            <a:ext cx="8724960" cy="597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INUED STRATEGIES AND PRIORITIES</a:t>
            </a:r>
            <a:endParaRPr b="0" lang="en-US" sz="1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needs </a:t>
            </a:r>
            <a:r>
              <a:rPr b="1" lang="en-GB" sz="2000" spc="-1" strike="noStrike">
                <a:solidFill>
                  <a:srgbClr val="000000"/>
                </a:solidFill>
                <a:latin typeface="Wingdings"/>
                <a:ea typeface="Wingdings"/>
              </a:rPr>
              <a:t></a:t>
            </a:r>
            <a:r>
              <a:rPr b="1" lang="en-GB" sz="2000" spc="-1" strike="noStrike">
                <a:solidFill>
                  <a:srgbClr val="000000"/>
                </a:solidFill>
                <a:latin typeface="Arial"/>
              </a:rPr>
              <a:t> types of interventions. </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ECHO focus on immediate and short term needs trough typical emergency and humanitarian assistance interventions: protection, demining, short term livelihood support and WASH, emergency health, transitional shelter. </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ECHO to fill emergency gaps from lack of Government services (e.g. protection services) or lack of Donor interventions (e.g. WB/ADB CFW only cover 75% of Vanni).</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Delegation focus on medium to longer term needs through rehabilitation and (re) construction interventions: mine risk education, permanent housing, community infrastructures and sustainable livelihood (access roads, construction and repairing of health centres, schools, water tanks/reservoirs, capacity building of associations of farmers/fishermen/producers). </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DEL to increase impact and sustainability of interventions.</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p:txBody>
      </p:sp>
      <p:sp>
        <p:nvSpPr>
          <p:cNvPr id="185" name="Espace réservé du numéro de diapositive 1"/>
          <p:cNvSpPr/>
          <p:nvPr/>
        </p:nvSpPr>
        <p:spPr>
          <a:xfrm>
            <a:off x="8623440" y="187200"/>
            <a:ext cx="50760" cy="82800"/>
          </a:xfrm>
          <a:prstGeom prst="rect">
            <a:avLst/>
          </a:prstGeom>
          <a:noFill/>
          <a:ln w="0">
            <a:noFill/>
          </a:ln>
        </p:spPr>
        <p:style>
          <a:lnRef idx="0"/>
          <a:fillRef idx="0"/>
          <a:effectRef idx="0"/>
          <a:fontRef idx="minor"/>
        </p:style>
        <p:txBody>
          <a:bodyPr lIns="90000" rIns="90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3462-663E-4C1B-A3E0-71C96E531382}"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87" name="ZoneTexte 2"/>
          <p:cNvSpPr/>
          <p:nvPr/>
        </p:nvSpPr>
        <p:spPr>
          <a:xfrm>
            <a:off x="152280" y="1447920"/>
            <a:ext cx="8496360" cy="5109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 a result of the focus on conflict affected areas and communities and the close collaboration with ECHO on LRRD strategy the Delegation has:</a:t>
            </a:r>
            <a:endParaRPr b="0" lang="en-US" sz="2000" spc="-1" strike="noStrike">
              <a:solidFill>
                <a:srgbClr val="80808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ncorporated the concepts of protection and conflict sensitivity in the programs funded on the basis of twin track approach (direct funding of projects and mainstreaming)</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Developed enhanced sensitivity towards other thematics related to the conflict, e.g. disability, which have become more visible due to their direct relation with conflict </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mproved needs-based response and enhanced flexibility, e.g. funding of private assets such as housing as a response to priority needs (without permanent housing sustainability of return process at risk). </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ssociating flanking measures for promoting and integrated approach and ensuring sustainability</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creasing coordination and synergies between actions</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276800"/>
          </a:xfrm>
          <a:prstGeom prst="rect">
            <a:avLst/>
          </a:prstGeom>
          <a:noFill/>
          <a:ln w="0">
            <a:noFill/>
          </a:ln>
        </p:spPr>
        <p:txBody>
          <a:bodyPr anchor="t">
            <a:normAutofit fontScale="87000"/>
          </a:bodyPr>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S</a:t>
            </a:r>
            <a:endParaRPr b="0" lang="en-US" sz="20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Shelter: ECHO intervention on transitional and semi permanent shelters (TSPS) in the East in the aftermath of end of hostilities in East in 2008. Delegation followed with intervention including the same areas and upgraded transitional shelter into permanent housing. TSPS still used by beneficiaries as warehouses/stables/kitchens</a:t>
            </a:r>
            <a:endParaRPr b="0" lang="en-US" sz="21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Demining: before return of IDPs funded by ECHO; Mine Risk Education before during and after return funded by DEL</a:t>
            </a:r>
            <a:endParaRPr b="0" lang="en-US" sz="21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ASH: well-cleaning and irrigation channel funded by ECHO; </a:t>
            </a:r>
            <a:r>
              <a:rPr b="1" lang="en-GB" sz="2100" spc="-1" strike="noStrike">
                <a:solidFill>
                  <a:srgbClr val="000000"/>
                </a:solidFill>
                <a:latin typeface="Arial"/>
                <a:ea typeface="Times New Roman"/>
              </a:rPr>
              <a:t>building/rehabilitation of wells</a:t>
            </a:r>
            <a:r>
              <a:rPr b="1" lang="en-GB" sz="2100" spc="-1" strike="noStrike">
                <a:solidFill>
                  <a:srgbClr val="000000"/>
                </a:solidFill>
                <a:latin typeface="Arial"/>
              </a:rPr>
              <a:t>, </a:t>
            </a:r>
            <a:r>
              <a:rPr b="1" lang="en-GB" sz="2100" spc="-1" strike="noStrike">
                <a:solidFill>
                  <a:srgbClr val="000000"/>
                </a:solidFill>
                <a:latin typeface="Arial"/>
                <a:ea typeface="Times New Roman"/>
              </a:rPr>
              <a:t>water tanks and reservoirs.</a:t>
            </a:r>
            <a:endParaRPr b="0" lang="en-US" sz="21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Livelihood: systemically associating hard actions with flanking measures promoting livelihood recovery and creation (&amp; Food Facility)</a:t>
            </a: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9T12:11:58Z</dcterms:modified>
  <cp:revision>893</cp:revision>
  <dc:subject/>
  <dc:title>No Slide Title</dc:title>
</cp:coreProperties>
</file>